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51F8-0FC2-4E56-8E18-849104E31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D44F5-E6EF-4253-B9F9-0CB859A3E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21126-571F-4A2A-9A82-F420B1774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12323-6188-48B4-9FA5-EA3953717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676A5-39C1-4FBB-B376-AF4C426FBE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00C19-25AC-4A0E-9A20-8429A49700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F633F-8F84-419E-9514-2FA9F2E268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D1E85-FCAE-42A8-B0D0-30A3DF601C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39485-CBDD-403F-9822-138990CE30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5FD71-D90A-438D-952D-4A90EB218D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F0B0A-8F18-4CBB-9A15-7DA663D938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23534-A70C-4D38-A790-3289D1499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F0176-F490-405F-8CF7-4283836781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2BD49-CC43-4F4A-83F2-357246AD26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B09B9-2A4E-41C3-98E9-F633DF0A5A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9FBB3-5370-4CF5-B664-98AE8AA13A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74BB7-78C2-4D14-B3E5-3FBCF20613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F718A-6BAC-40D6-BE55-0729402C6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23CC1-3DA1-487F-BE82-402E33A4E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00AB1-BACE-49EC-9611-D0022A79C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940E4-C4D5-4C4E-8B1E-87665091B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95C9F-DC4D-452E-9211-1C20479CC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AEE2F-64DC-4FF9-9A01-E4F85AE94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E37AF-D299-4136-A4AF-63E02F0FC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CFACA09-7A4B-47C5-B9B3-447DC2E4CA3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6828CA4-7046-4C7D-825A-8FDEEBD585C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580000" y="260280"/>
            <a:ext cx="290844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508720" y="338040"/>
            <a:ext cx="2504880" cy="590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A8403C2-59A9-4B78-B9BC-F3999F04A6D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CCD350A-7D9F-4252-AE8F-CF7C2307641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9-01-24T11:11:59Z</dcterms:modified>
  <cp:revision>257</cp:revision>
  <dc:subject/>
  <dc:title>8: SAMPLE SIZE DETERMINATION</dc:title>
</cp:coreProperties>
</file>